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322-4D44-4188-B154-E4FDB834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DA4-B2C6-48E0-87F5-D82D7258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260-F747-4977-85FE-A4956EE3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D7A-BD39-44E7-AA58-7DC48C8C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662-516F-4DE8-86A6-BB875234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FE6-4667-41FB-9053-6036DE5E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0DE-1672-489D-BB3A-CF5D9775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EC7-16AE-44CF-9E69-FCE18CC7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43F-2D34-47ED-8BCD-30C772B4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2FB-373C-41B2-A153-59C2BD57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903-F70A-48D5-BA13-1892965D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B62-2FD3-4CBB-A23D-8CABEB0A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5344-1D37-4A0A-BA69-6C71AF74AE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85256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8604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3"/>
          <a:stretch/>
        </p:blipFill>
        <p:spPr>
          <a:xfrm>
            <a:off x="1420920" y="2457360"/>
            <a:ext cx="3011400" cy="68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5724360" y="2097000"/>
            <a:ext cx="2808360" cy="19083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2614680" y="5761080"/>
            <a:ext cx="6132600" cy="6206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1328760" y="5224320"/>
            <a:ext cx="720576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1311120" y="4359240"/>
            <a:ext cx="7077240" cy="82872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1298520" y="385272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9"/>
          <a:stretch/>
        </p:blipFill>
        <p:spPr>
          <a:xfrm>
            <a:off x="1322280" y="341316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1"/>
          <a:stretch/>
        </p:blipFill>
        <p:spPr>
          <a:xfrm>
            <a:off x="500040" y="4809960"/>
            <a:ext cx="8053560" cy="7686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341280" y="2073240"/>
            <a:ext cx="8193240" cy="889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6148440" y="4581360"/>
            <a:ext cx="2392200" cy="17272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517680" y="5956200"/>
            <a:ext cx="8059680" cy="40176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523800" y="5529240"/>
            <a:ext cx="8059680" cy="3952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2395440" y="4254480"/>
            <a:ext cx="4230720" cy="4032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2382840" y="3773520"/>
            <a:ext cx="590724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500040" y="3371760"/>
            <a:ext cx="8058240" cy="40176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500040" y="3029040"/>
            <a:ext cx="8053560" cy="403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4" descr=""/>
          <p:cNvPicPr/>
          <p:nvPr/>
        </p:nvPicPr>
        <p:blipFill>
          <a:blip r:embed="rId10"/>
          <a:stretch/>
        </p:blipFill>
        <p:spPr>
          <a:xfrm>
            <a:off x="682560" y="1054080"/>
            <a:ext cx="78519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2:00:43Z</dcterms:created>
  <dc:creator/>
  <dc:description/>
  <dc:language>en-US</dc:language>
  <cp:lastModifiedBy/>
  <dcterms:modified xsi:type="dcterms:W3CDTF">2011-12-08T12:03:57Z</dcterms:modified>
  <cp:revision>1</cp:revision>
  <dc:subject/>
  <dc:title/>
</cp:coreProperties>
</file>